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7.pct" ContentType="image/x-pict"/>
  <Override PartName="/ppt/media/image6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F407-6BD5-4486-B990-964C6213B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AD25-F767-4C13-A4BB-E6CA88F51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CAED-1035-40B9-BA4A-68C38E277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55E8-DD02-4CC9-BD18-8EC5C86E9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63BA6-4588-4A7B-8848-E5C0E1C79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6B780-A08F-4964-B77F-0921CDC35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76048-385E-4DD4-B903-749671929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BE4F4-7657-4BBC-AE00-91218F088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E90C7-7C05-40D8-9788-992C0B284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DD907-342D-45FE-9730-89AEE1A15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0DF8D-2F90-414B-8705-A8AF13284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D6FF-F458-4631-8482-F0D99E8D8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1AC10-97D4-48F6-8823-029B1D1A6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DEE59-0B9E-49F1-B5BC-1C25CC6B7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4557F-248D-491E-9BA9-19E76DC22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3B088-041B-4103-A2F4-7A46AAEDD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28EB6-CAFF-439D-9B23-717AA6A60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A059-B64A-42AB-9A39-5F144BFEA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82DB-2740-4C38-B0AA-C62E56B78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39A1-05E2-43AF-BE63-0CFEE9FE4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9252-39F3-4D2D-9581-7A1F77F45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B88C-2231-4FF4-8943-F068B764C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A283-33CC-4073-93EF-864950A2C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D175-D1CF-40F5-B6AC-A607A390F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150920" y="1676520"/>
            <a:ext cx="6697800" cy="12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13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BF436-B6AE-42BD-AC61-960C4FC0EF3D}" type="slidenum"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-144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133720" y="3124080"/>
            <a:ext cx="5459400" cy="133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520" y="17524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1523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39E52-EA45-47CC-96CF-CD64876C0BD6}" type="slidenum"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12164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1625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Lewis and Clark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523520" y="3352680"/>
            <a:ext cx="71629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Created by Patrick Young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352680" y="1676520"/>
            <a:ext cx="299088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2767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What caused this great expedition and what was the outcome or results of their trip?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Key Member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Lewis Merriweather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illiam Clark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Pocahontas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952880" y="2133720"/>
            <a:ext cx="347976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Reason for Exploring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Ordered by Jefferson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Race to the West with France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trictly for scientific purposes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981080" y="3809880"/>
            <a:ext cx="502920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Interesting Fact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Only one man killed (appendicitis)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Horses got stolen by Crow Indians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Group split on the way back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wo Indians killed in fight over weapons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Hundreds of new specimens found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onclusion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Very successful expedition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Minimal deaths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Many new findings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7T14:09:56Z</dcterms:created>
  <dc:creator>PA Department of Education</dc:creator>
  <dc:description/>
  <dc:language>en-US</dc:language>
  <cp:lastModifiedBy>PA Department of Education</cp:lastModifiedBy>
  <dcterms:modified xsi:type="dcterms:W3CDTF">2008-05-27T14:33:27Z</dcterms:modified>
  <cp:revision>1</cp:revision>
  <dc:subject/>
  <dc:title>Lewis and Clark</dc:title>
</cp:coreProperties>
</file>